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FE3-E3DF-404F-9413-E87547F3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6E9-B93C-4491-BEFD-7D902116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60B-D94F-45D9-AD9C-08B04DE2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E0F-5890-4D4E-B69D-B47FAF42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5C2-CFE1-4623-A346-764743CB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26D-E9AC-4EBB-A782-4FBE7576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D16-4C34-4625-BFDC-59CF5CD0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F6C-5210-4044-BFF2-BF2D01CC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BF5-9C5C-4005-8AF6-D49ABC64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5C5-AD22-4012-B9E4-6CA934B4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9FE-35FD-4DCB-B587-F3F7552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A40-DA05-47D3-A961-9D1D60B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3745-3AF3-4ECF-89E7-F71FDC7350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4B Fitting trend lines and 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trend line is a straight line that is used to fit an entire time series and can be used to predict future valu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calculate the equation of a trend line using either the 3-median or least-squares regression method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cannot use these techniques on cyclical or seasonal trend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lways plot the time-series data, so that the type of pattern or trend can be easily see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n association table is often required to convert period labels to numbers, so that a straight line equation can be calculat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s: Ex 4B, 1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4B, 3, 4, 7, 8, 10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9:52:11Z</dcterms:created>
  <dc:creator>08843474</dc:creator>
  <dc:description/>
  <dc:language>en-US</dc:language>
  <cp:lastModifiedBy>08843474</cp:lastModifiedBy>
  <dcterms:modified xsi:type="dcterms:W3CDTF">2011-03-19T22:21:51Z</dcterms:modified>
  <cp:revision>2</cp:revision>
  <dc:subject/>
  <dc:title>Time series</dc:title>
</cp:coreProperties>
</file>